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473-0086-4E46-8993-C41039BA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382-6AA7-408F-9525-EA1E12E1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789-D339-417C-B03E-7EA64A4A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495-F142-480E-9E8E-1C23F4B7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55F4-043E-4249-9C80-247971F0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C799-0236-432D-A903-9050AB80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287D-4AF4-4080-9310-3B3FC849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8E33-4BED-4570-9C58-8665265E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7667-7B28-4226-98B5-A5FCA198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85F3-8AD3-4D3A-8A23-5022B562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CDBC-FF0F-47A7-9A30-E507521B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617-4E36-4348-84E0-CAD0939D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6EF4-4512-4979-82F4-48C3FBF0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B636-58E1-4F2A-9942-E02C3A5C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6A98-ABD1-4D14-8CAC-F78DE4C2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D978-A2BA-4AA0-88DC-2C6D5D68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17C0-51FE-4967-AB33-D5261EDE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70AAE-4E49-4F72-BB6C-AFCFE303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01592-8F57-4BD2-8D35-F856DE00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600C6-9BB5-4B02-8E09-83969BB2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B7014-35BA-41C2-AECF-5DEE9294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FB4B6-4DB3-44AC-9CB7-20D1BC5D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39DE-578F-4A38-94CA-DC7B1C84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5C326-97E8-41F5-9550-9660C05C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27162-4DDE-4C6C-95C6-19B4ED12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04691-B296-4506-81F4-C412D66B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A0BB4-322A-4256-A535-B9D1B296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03EEE-4258-42F3-A6B8-4FAE337D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FDFD2-33A7-4435-AB12-38E98B16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956DE-991F-474B-9724-61889FC6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005-3934-4FD7-B715-BB52ABF5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9B8-86BB-4617-BFFF-B9DBF81E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CB9-8BB5-4952-BBC1-670ABCA7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722-E726-4E21-A432-9B914FC4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9A2-7B6B-402E-AF79-A6FB3820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301-650A-416B-A4FC-EE430967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D4422-1E87-4AA6-90C4-FC5F780F65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B3499-9C32-4CAB-9B4D-F77A327AB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165240" y="7873920"/>
            <a:ext cx="5486400" cy="1295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3" descr=""/>
          <p:cNvPicPr/>
          <p:nvPr/>
        </p:nvPicPr>
        <p:blipFill>
          <a:blip r:embed="rId3"/>
          <a:stretch/>
        </p:blipFill>
        <p:spPr>
          <a:xfrm>
            <a:off x="317520" y="8026560"/>
            <a:ext cx="5486400" cy="1295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" descr=""/>
          <p:cNvPicPr/>
          <p:nvPr/>
        </p:nvPicPr>
        <p:blipFill>
          <a:blip r:embed="rId4"/>
          <a:stretch/>
        </p:blipFill>
        <p:spPr>
          <a:xfrm>
            <a:off x="469800" y="8178840"/>
            <a:ext cx="5486400" cy="1295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" descr=""/>
          <p:cNvPicPr/>
          <p:nvPr/>
        </p:nvPicPr>
        <p:blipFill>
          <a:blip r:embed="rId5"/>
          <a:stretch/>
        </p:blipFill>
        <p:spPr>
          <a:xfrm>
            <a:off x="622440" y="8331120"/>
            <a:ext cx="5486400" cy="129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65240" y="7873920"/>
            <a:ext cx="5486400" cy="12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317520" y="8026560"/>
            <a:ext cx="5486400" cy="1295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4"/>
          <a:stretch/>
        </p:blipFill>
        <p:spPr>
          <a:xfrm>
            <a:off x="469800" y="8178840"/>
            <a:ext cx="5486400" cy="1295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5"/>
          <a:stretch/>
        </p:blipFill>
        <p:spPr>
          <a:xfrm>
            <a:off x="622440" y="8331120"/>
            <a:ext cx="5486400" cy="129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SummerMeeting Logo-1-1.png"/>
          <p:cNvPicPr/>
          <p:nvPr/>
        </p:nvPicPr>
        <p:blipFill>
          <a:blip r:embed="rId6"/>
          <a:stretch/>
        </p:blipFill>
        <p:spPr>
          <a:xfrm>
            <a:off x="7520040" y="612144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7"/>
          <a:stretch/>
        </p:blipFill>
        <p:spPr>
          <a:xfrm>
            <a:off x="457200" y="6113520"/>
            <a:ext cx="2666880" cy="630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3AFCC-ADE8-4982-B144-A7A2E5D5EA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31229-DC4B-48B1-907F-AEF40B0C2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65240" y="7873920"/>
            <a:ext cx="548640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317520" y="8026560"/>
            <a:ext cx="5486400" cy="1295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4"/>
          <a:stretch/>
        </p:blipFill>
        <p:spPr>
          <a:xfrm>
            <a:off x="469800" y="8178840"/>
            <a:ext cx="548640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5"/>
          <a:stretch/>
        </p:blipFill>
        <p:spPr>
          <a:xfrm>
            <a:off x="622440" y="8331120"/>
            <a:ext cx="5486400" cy="129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SummerMeeting Logo-1-1.png"/>
          <p:cNvPicPr/>
          <p:nvPr/>
        </p:nvPicPr>
        <p:blipFill>
          <a:blip r:embed="rId6"/>
          <a:stretch/>
        </p:blipFill>
        <p:spPr>
          <a:xfrm>
            <a:off x="7520040" y="612144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7"/>
          <a:stretch/>
        </p:blipFill>
        <p:spPr>
          <a:xfrm>
            <a:off x="457200" y="6091200"/>
            <a:ext cx="2666880" cy="630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5C750-501D-4CAE-9F4A-6C73AA4559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E9509-24C6-4DC9-AF92-D7F2000DA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SummerMeeting Logo-1-1.png"/>
          <p:cNvPicPr/>
          <p:nvPr/>
        </p:nvPicPr>
        <p:blipFill>
          <a:blip r:embed="rId1"/>
          <a:stretch/>
        </p:blipFill>
        <p:spPr>
          <a:xfrm>
            <a:off x="254160" y="942840"/>
            <a:ext cx="872316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s t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organiz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ation staff and volunt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 fell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IMG_20100823_172650.jpg"/>
          <p:cNvPicPr/>
          <p:nvPr/>
        </p:nvPicPr>
        <p:blipFill>
          <a:blip r:embed="rId1"/>
          <a:stretch/>
        </p:blipFill>
        <p:spPr>
          <a:xfrm>
            <a:off x="4194000" y="1600200"/>
            <a:ext cx="3888000" cy="290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2011-07-12_18-25-15_997v2.jpg"/>
          <p:cNvPicPr/>
          <p:nvPr/>
        </p:nvPicPr>
        <p:blipFill>
          <a:blip r:embed="rId2"/>
          <a:stretch/>
        </p:blipFill>
        <p:spPr>
          <a:xfrm>
            <a:off x="1714680" y="3713040"/>
            <a:ext cx="36842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eting Log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er Set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break and time prior to rece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nch Thursday and Friday at La Fon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Partners Since July 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er for Spatial Analysis, University of Oklahoma (Type II - Researc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ty of Chicago (Type III - Applic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ONE (University of New Mexico) (Type I - Data Cen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Technology and Systems Center (ITSC) (Type II - Researc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onal Earth Science Teachers Association (NESTA) (Type III - Applic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onal Ecological Observatory Network (NEON) (Type I - Data Cen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 Applications Under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Conservancy (DC) (Type I - Data Cen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opical Ecology Assessment and Monitoring (TEAM) Network (Type II - Resea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zona Geological Survey (Type II - Resea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zone and Atmospheric Quality Processing Team, NASA Goddard Space Flight Center (Type II – Resea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 Fell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leg Aulov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versity of Maryland, Baltimore County (Data &amp; Information Quali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ent Maddux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versity of Wisconsin, Madison (Data Preserv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asmin Zaerpoor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umbia University    (Energy &amp; Clim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sse Rober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versity of Wisconsin, Madison    (E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mas Narock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versity of Maryland, Baltimore County    (Semantic We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ric Rozel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PI (Discover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tish Menon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TB    (Air Quality [Participates remotely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gs and Other Announc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merging Networks Map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ing throughout the meeting, beginning at the poster session. It will be set up for the poster session and the remainder of the meet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mate Literacy and Energy Awareness Network (CLEA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oking for expert reviewers of climate and energy curricula (See Tamara Ledley – table next to registration desk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lease take a look at proposed Bylaws changes documen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eakouts on Thursday and Frid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nding Friday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$5K awards to be given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lk to Carol or Erin if you need more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IP Strategic Plan Mid-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eat held June 201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leadership and addition membership re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facilit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s of the ret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us che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ssage focu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on plan for remaining 2+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info see sheet in packet and po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eting Theme – Data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2011-07-10_10-19-42_423.jpg"/>
          <p:cNvPicPr/>
          <p:nvPr/>
        </p:nvPicPr>
        <p:blipFill>
          <a:blip r:embed="rId1"/>
          <a:stretch/>
        </p:blipFill>
        <p:spPr>
          <a:xfrm>
            <a:off x="1195560" y="1506600"/>
            <a:ext cx="6765840" cy="3814560"/>
          </a:xfrm>
          <a:prstGeom prst="rect">
            <a:avLst/>
          </a:prstGeom>
          <a:ln w="0">
            <a:noFill/>
          </a:ln>
        </p:spPr>
      </p:pic>
      <p:sp>
        <p:nvSpPr>
          <p:cNvPr id="158" name="Content Placeholder 2"/>
          <p:cNvSpPr/>
          <p:nvPr/>
        </p:nvSpPr>
        <p:spPr>
          <a:xfrm>
            <a:off x="3263760" y="2289240"/>
            <a:ext cx="260208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6σ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Macintosh HD:private:var:folders:lx:lxEJ2tiJHbeAz1cW8IrAjE+++TI:-Tmp-:TemporaryItems:661A15F8.mp4" descr=""/>
          <p:cNvPicPr/>
          <p:nvPr/>
        </p:nvPicPr>
        <p:blipFill>
          <a:blip r:embed="rId2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60" name="Content Placeholder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quality is not a my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related to the instr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gathered the data and w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algorithms to enhance, re-analyze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‘data’ live on even though there are recognized flaws/limi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12:45:25Z</dcterms:created>
  <dc:creator>W. Christopher Lenhardt</dc:creator>
  <dc:description/>
  <dc:language>en-US</dc:language>
  <cp:lastModifiedBy>Carol Meyer</cp:lastModifiedBy>
  <dcterms:modified xsi:type="dcterms:W3CDTF">2011-07-18T12:46:00Z</dcterms:modified>
  <cp:revision>29</cp:revision>
  <dc:subject/>
  <dc:title>ESIP Federation 2011 Summer Meeting</dc:title>
</cp:coreProperties>
</file>